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ct" ContentType="image/x-pict"/>
  <Override PartName="/ppt/media/image8.pct" ContentType="image/x-pict"/>
  <Override PartName="/ppt/media/image6.jpeg" ContentType="image/jpeg"/>
  <Override PartName="/ppt/media/image10.jpeg" ContentType="image/jpeg"/>
  <Override PartName="/ppt/media/image7.pct" ContentType="image/x-pict"/>
  <Override PartName="/ppt/media/image5.pct" ContentType="image/x-pict"/>
  <Override PartName="/ppt/media/image2.jpeg" ContentType="image/jpeg"/>
  <Override PartName="/ppt/media/image4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100584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071720" y="685440"/>
            <a:ext cx="47145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C6C0-03FD-4DD5-9E09-FBEBAD464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AB7B-3AD0-4DF9-BD67-E94865158640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A255-8B3C-48F0-9CDA-E3B421076B62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6853-9698-4BED-9285-4F685B31328D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8A76-43D6-48D9-A3CC-03D941526904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1A62-DC88-4CBE-ABF0-42948D2CBBE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93E3-DCDC-4219-865B-060047CB073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E216-401E-4A82-BA45-2E3B7750BB71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50DF-9947-40EF-B173-D83CB64C4404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4ABA-5571-4D25-8F3B-412868A84113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4DB9-68C3-49D7-8C3E-381761F720AD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CCD0-AF85-45AE-89F8-8BE7B0D12015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09FD-AF84-49E3-BF4B-5129AE092041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2FF2-70F4-40B2-965F-14FC93459F16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09B3-E713-496F-B299-8CC6552D601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B088-D147-40D6-ABDA-C584C110E78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4A16-63E9-4C3D-AF68-FC9DA024E8F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FA23-A8C2-4E57-8E4A-A012D94DBD28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96DF-568E-45E2-9517-699AFD15E49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7075-90CB-41A6-ACD4-6801B5A9E530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398F-8BEE-4ADB-935E-681BFDE12E36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F134-6599-4924-95F6-5150ACFA8BEC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435E-4A7B-4D01-AD60-A3F83C9618DF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BF70-8A13-47CE-BE2E-93A4E8BB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855000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4200" y="4405680"/>
            <a:ext cx="855000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CF87-CBEE-48A4-A23B-9D762EA4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5400" y="21124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4200" y="44056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35400" y="44056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F5DA-4E48-463D-A15C-060799D1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275292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5000" y="2112480"/>
            <a:ext cx="275292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36160" y="2112480"/>
            <a:ext cx="275292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4200" y="4405680"/>
            <a:ext cx="275292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5000" y="4405680"/>
            <a:ext cx="275292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36160" y="4405680"/>
            <a:ext cx="275292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2A97-8A05-4A80-AE62-E1D88C16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13C6-DDAE-4AB3-85E5-02E8F9C9C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4200" y="2112480"/>
            <a:ext cx="85500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0BBF-0F60-40C2-9EF6-A555B5A3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855000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8B76-C40E-4EA5-A527-702B60F7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417204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35400" y="2112480"/>
            <a:ext cx="417204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A1AC-60E6-4C95-AC59-B9FAD0A7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7C38-4B47-4E08-B940-DA95776D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4200" y="568080"/>
            <a:ext cx="8550000" cy="64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7081-CF52-46F7-95FD-EA5D54F2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5400" y="2112480"/>
            <a:ext cx="417204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4200" y="44056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F244-D574-4BCC-8D89-A708AC10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4200" y="2112480"/>
            <a:ext cx="85500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4196-DA23-4935-B56C-EA859DE6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417204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5400" y="21124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35400" y="44056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A3C4-D95E-4E1B-AAAA-94F3840D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5400" y="21124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4200" y="4405680"/>
            <a:ext cx="855000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6844-39A7-4A12-A815-F377348D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855000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4200" y="4405680"/>
            <a:ext cx="855000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DE5E-CD12-4A66-A8F0-827DBF90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35400" y="21124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4200" y="44056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35400" y="44056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31C7-4164-4DCE-8980-7E087929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275292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45000" y="2112480"/>
            <a:ext cx="275292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36160" y="2112480"/>
            <a:ext cx="275292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4200" y="4405680"/>
            <a:ext cx="275292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45000" y="4405680"/>
            <a:ext cx="275292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36160" y="4405680"/>
            <a:ext cx="275292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7F66-B2A6-4FD5-88BA-E3C212D3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855000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9988-06F2-4F22-BE3E-1EB14506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417204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5400" y="2112480"/>
            <a:ext cx="417204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CFEB-3AB8-41A0-90BE-B3F169FF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D303-D52A-472E-A9E0-81C11A72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4200" y="568080"/>
            <a:ext cx="8550000" cy="64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6334-E4C9-45E2-B197-2B745D0E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400" y="2112480"/>
            <a:ext cx="417204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4200" y="44056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E9D9-A1BD-4620-8C67-0BAA440F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417204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5400" y="21124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35400" y="44056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55A5-C386-473B-9093-12AB0BBD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5400" y="21124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4200" y="4405680"/>
            <a:ext cx="855000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C1A3-89F6-420A-A560-70917A98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10059840" cy="7316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1266840" y="1787400"/>
            <a:ext cx="7365960" cy="1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54200" y="2112480"/>
            <a:ext cx="855000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 fontScale="97000"/>
          </a:bodyPr>
          <a:p>
            <a:pPr marL="361440" indent="-361440">
              <a:spcBef>
                <a:spcPts val="876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  <a:p>
            <a:pPr lvl="1" marL="781920" indent="-300240">
              <a:spcBef>
                <a:spcPts val="876"/>
              </a:spcBef>
              <a:buClr>
                <a:srgbClr val="212164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  <a:p>
            <a:pPr lvl="2" marL="1203840" indent="-241560">
              <a:spcBef>
                <a:spcPts val="876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  <a:p>
            <a:pPr lvl="3" marL="1684440" indent="-240120">
              <a:spcBef>
                <a:spcPts val="876"/>
              </a:spcBef>
              <a:buClr>
                <a:srgbClr val="212164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  <a:p>
            <a:pPr lvl="4" marL="2166120" indent="-239760">
              <a:spcBef>
                <a:spcPts val="876"/>
              </a:spcBef>
              <a:buClr>
                <a:srgbClr val="212164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  <a:p>
            <a:pPr lvl="5" marL="2166120" indent="-239760">
              <a:spcBef>
                <a:spcPts val="876"/>
              </a:spcBef>
              <a:buClr>
                <a:srgbClr val="212164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  <a:p>
            <a:pPr lvl="6" marL="2166120" indent="-239760">
              <a:spcBef>
                <a:spcPts val="876"/>
              </a:spcBef>
              <a:buClr>
                <a:srgbClr val="212164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54200" y="6546600"/>
            <a:ext cx="2095200" cy="487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36920" y="6546600"/>
            <a:ext cx="3184560" cy="487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209000" y="6546600"/>
            <a:ext cx="2095200" cy="487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FD94-20D2-4031-8999-5DF9C9B8EF6D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10059840" cy="731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346480" y="3332160"/>
            <a:ext cx="6005520" cy="142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4200" y="2112480"/>
            <a:ext cx="855000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 fontScale="97000"/>
          </a:bodyPr>
          <a:p>
            <a:pPr marL="361440" indent="-361440">
              <a:spcBef>
                <a:spcPts val="876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  <a:p>
            <a:pPr lvl="1" marL="781920" indent="-300240">
              <a:spcBef>
                <a:spcPts val="876"/>
              </a:spcBef>
              <a:buClr>
                <a:srgbClr val="212164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  <a:p>
            <a:pPr lvl="2" marL="1203840" indent="-241560">
              <a:spcBef>
                <a:spcPts val="876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  <a:p>
            <a:pPr lvl="3" marL="1684440" indent="-240120">
              <a:spcBef>
                <a:spcPts val="876"/>
              </a:spcBef>
              <a:buClr>
                <a:srgbClr val="212164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  <a:p>
            <a:pPr lvl="4" marL="2166120" indent="-239760">
              <a:spcBef>
                <a:spcPts val="876"/>
              </a:spcBef>
              <a:buClr>
                <a:srgbClr val="212164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  <a:p>
            <a:pPr lvl="5" marL="2166120" indent="-239760">
              <a:spcBef>
                <a:spcPts val="876"/>
              </a:spcBef>
              <a:buClr>
                <a:srgbClr val="212164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  <a:p>
            <a:pPr lvl="6" marL="2166120" indent="-239760">
              <a:spcBef>
                <a:spcPts val="876"/>
              </a:spcBef>
              <a:buClr>
                <a:srgbClr val="212164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676160" y="6664320"/>
            <a:ext cx="209556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022280" y="6664320"/>
            <a:ext cx="318636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459200" y="6664320"/>
            <a:ext cx="209556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094D-8959-4DA6-9B02-CED5909F78DE}" type="slidenum">
              <a:rPr b="0" lang="en-US" sz="1500" spc="-1" strike="noStrike">
                <a:solidFill>
                  <a:srgbClr val="5d2204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1869840"/>
            <a:ext cx="7878600" cy="1461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5d2204"/>
                </a:solidFill>
                <a:latin typeface="Arial"/>
              </a:rPr>
              <a:t>Iris and Walter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676160" y="3576600"/>
            <a:ext cx="7878600" cy="1868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5d2204"/>
                </a:solidFill>
                <a:latin typeface="Arial"/>
              </a:rPr>
              <a:t>Vocabulary</a:t>
            </a: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meadow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3840" y="2112480"/>
            <a:ext cx="419076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A piece of grassy land </a:t>
            </a:r>
            <a:r>
              <a:rPr b="0" i="1" lang="en-US" sz="2000" spc="-1" strike="noStrike">
                <a:solidFill>
                  <a:srgbClr val="212164"/>
                </a:solidFill>
                <a:latin typeface="Arial"/>
              </a:rPr>
              <a:t>-noun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A meadow is a great place to picnic.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1"/>
          <a:stretch/>
        </p:blipFill>
        <p:spPr>
          <a:xfrm>
            <a:off x="5113440" y="2955960"/>
            <a:ext cx="4190760" cy="270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amazing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3840" y="2112480"/>
            <a:ext cx="419076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Wonderful or surprising </a:t>
            </a:r>
            <a:r>
              <a:rPr b="0" i="1" lang="en-US" sz="2000" spc="-1" strike="noStrike">
                <a:solidFill>
                  <a:srgbClr val="212164"/>
                </a:solidFill>
                <a:latin typeface="Arial"/>
              </a:rPr>
              <a:t>-adjective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This surfer is doing an amazing job!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0">
              <a:spcBef>
                <a:spcPts val="75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5113440" y="2963880"/>
            <a:ext cx="4190760" cy="268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rural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3840" y="2112480"/>
            <a:ext cx="419076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Describes the country </a:t>
            </a:r>
            <a:r>
              <a:rPr b="0" i="1" lang="en-US" sz="2000" spc="-1" strike="noStrike">
                <a:solidFill>
                  <a:srgbClr val="212164"/>
                </a:solidFill>
                <a:latin typeface="Arial"/>
              </a:rPr>
              <a:t>-adjective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My aunt lives on a farm in a rural part of the state.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5479920" y="2112840"/>
            <a:ext cx="3457800" cy="438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urban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3840" y="2112480"/>
            <a:ext cx="419076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Describes a city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There is a lot of traffic with cars, trucks, and buses in an urban place.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5113440" y="2952720"/>
            <a:ext cx="4190760" cy="2709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Oral Vocabulary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3840" y="2112480"/>
            <a:ext cx="419076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brittle</a:t>
            </a: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creature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dart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decision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0">
              <a:spcBef>
                <a:spcPts val="75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70160" y="2112480"/>
            <a:ext cx="508788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investigate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rural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underground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urban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113080" y="2112480"/>
            <a:ext cx="419076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creature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754200" y="2112840"/>
            <a:ext cx="8550000" cy="438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brittle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754200" y="2112840"/>
            <a:ext cx="8550000" cy="438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dart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754200" y="2112840"/>
            <a:ext cx="8550000" cy="438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decision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754200" y="2112840"/>
            <a:ext cx="8550000" cy="438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investigate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754200" y="2112840"/>
            <a:ext cx="8550000" cy="438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country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3840" y="2112480"/>
            <a:ext cx="419076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A community of farms, usually less buildings and people than a city </a:t>
            </a:r>
            <a:r>
              <a:rPr b="0" i="1" lang="en-US" sz="2000" spc="-1" strike="noStrike">
                <a:solidFill>
                  <a:srgbClr val="212164"/>
                </a:solidFill>
                <a:latin typeface="Arial"/>
              </a:rPr>
              <a:t>-noun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The country has lots of open spaces.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8196120" y="3952800"/>
            <a:ext cx="200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5113440" y="2784600"/>
            <a:ext cx="4190760" cy="3046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rural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754200" y="2112840"/>
            <a:ext cx="8550000" cy="438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underground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754200" y="2112840"/>
            <a:ext cx="8550000" cy="438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urban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754200" y="2112840"/>
            <a:ext cx="8550000" cy="438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beautiful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3840" y="2112480"/>
            <a:ext cx="419076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Very pretty </a:t>
            </a:r>
            <a:r>
              <a:rPr b="0" i="1" lang="en-US" sz="2000" spc="-1" strike="noStrike">
                <a:solidFill>
                  <a:srgbClr val="212164"/>
                </a:solidFill>
                <a:latin typeface="Arial"/>
              </a:rPr>
              <a:t>-adjective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The picture shows a beautiful scene.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5113440" y="2949480"/>
            <a:ext cx="4190760" cy="271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front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3840" y="2112480"/>
            <a:ext cx="419076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The opposite of back </a:t>
            </a:r>
            <a:r>
              <a:rPr b="0" i="1" lang="en-US" sz="2000" spc="-1" strike="noStrike">
                <a:solidFill>
                  <a:srgbClr val="212164"/>
                </a:solidFill>
                <a:latin typeface="Arial"/>
              </a:rPr>
              <a:t>-adjective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I can see the front of your shirt.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A place where you stand with others behind you. </a:t>
            </a:r>
            <a:r>
              <a:rPr b="0" i="1" lang="en-US" sz="2000" spc="-1" strike="noStrike">
                <a:solidFill>
                  <a:srgbClr val="212164"/>
                </a:solidFill>
                <a:latin typeface="Arial"/>
              </a:rPr>
              <a:t>-adverb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Please get at the front of the line.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 flipH="1">
            <a:off x="4951440" y="2031840"/>
            <a:ext cx="4178160" cy="438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someone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3840" y="2112480"/>
            <a:ext cx="419076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A person </a:t>
            </a:r>
            <a:r>
              <a:rPr b="0" i="1" lang="en-US" sz="2000" spc="-1" strike="noStrike">
                <a:solidFill>
                  <a:srgbClr val="212164"/>
                </a:solidFill>
                <a:latin typeface="Arial"/>
              </a:rPr>
              <a:t>-noun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Mrs. Story is someone important at our school.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0">
              <a:spcBef>
                <a:spcPts val="75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5113440" y="2416320"/>
            <a:ext cx="4190760" cy="378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somewhere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3840" y="2112480"/>
            <a:ext cx="419076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A place </a:t>
            </a:r>
            <a:r>
              <a:rPr b="0" i="1" lang="en-US" sz="2000" spc="-1" strike="noStrike">
                <a:solidFill>
                  <a:srgbClr val="212164"/>
                </a:solidFill>
                <a:latin typeface="Arial"/>
              </a:rPr>
              <a:t>-noun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We will go somewhere special for lunch.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0">
              <a:spcBef>
                <a:spcPts val="75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0">
              <a:spcBef>
                <a:spcPts val="75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5113440" y="2313000"/>
            <a:ext cx="4190760" cy="398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friend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3840" y="2112480"/>
            <a:ext cx="419076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A pal, someone you like to play with 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0">
              <a:spcBef>
                <a:spcPts val="499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212164"/>
                </a:solidFill>
                <a:latin typeface="Arial"/>
              </a:rPr>
              <a:t>-noun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My friend and I will go to the playground together.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0">
              <a:spcBef>
                <a:spcPts val="75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5113440" y="2960640"/>
            <a:ext cx="4190760" cy="2695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Roller-skate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3840" y="2112480"/>
            <a:ext cx="419076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To move on roller skate, which are skates with wheels </a:t>
            </a:r>
            <a:r>
              <a:rPr b="0" i="1" lang="en-US" sz="2000" spc="-1" strike="noStrike">
                <a:solidFill>
                  <a:srgbClr val="212164"/>
                </a:solidFill>
                <a:latin typeface="Arial"/>
              </a:rPr>
              <a:t>-verb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I like to roller-skate in my driveway.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0">
              <a:spcBef>
                <a:spcPts val="751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179800" y="3495600"/>
            <a:ext cx="5867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7" name="Picture 8" descr="rollerskate_l"/>
          <p:cNvPicPr/>
          <p:nvPr/>
        </p:nvPicPr>
        <p:blipFill>
          <a:blip r:embed="rId1"/>
          <a:stretch/>
        </p:blipFill>
        <p:spPr>
          <a:xfrm>
            <a:off x="5113440" y="2193840"/>
            <a:ext cx="4190760" cy="379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ladder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3840" y="2112480"/>
            <a:ext cx="419076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A set of steps with two side pieces and rungs for climbing </a:t>
            </a:r>
            <a:r>
              <a:rPr b="0" i="1" lang="en-US" sz="2000" spc="-1" strike="noStrike">
                <a:solidFill>
                  <a:srgbClr val="212164"/>
                </a:solidFill>
                <a:latin typeface="Arial"/>
              </a:rPr>
              <a:t>-noun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The firemen are using a ladder to climb.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0">
              <a:spcBef>
                <a:spcPts val="75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0">
              <a:spcBef>
                <a:spcPts val="75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113440" y="2949480"/>
            <a:ext cx="4190760" cy="271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22:06:12Z</dcterms:created>
  <dc:creator>CMCSS CMCSS</dc:creator>
  <dc:description/>
  <dc:language>en-US</dc:language>
  <cp:lastModifiedBy>Laura McDow</cp:lastModifiedBy>
  <dcterms:modified xsi:type="dcterms:W3CDTF">2010-07-29T11:18:47Z</dcterms:modified>
  <cp:revision>20</cp:revision>
  <dc:subject/>
  <dc:title>Iris and Walter</dc:title>
</cp:coreProperties>
</file>